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E1A-BE8A-456F-B78D-DD32FF29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2AF-B70F-430B-AB60-8327C788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092-ED1F-46E3-B249-500AEB3D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C86-4EEF-41D7-9ED7-3BC0000D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C1E-4ADC-422D-BC25-1EEBF52B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CBA-1859-448F-A6FD-3E63E5B5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5C3-06B2-4DF1-9CA4-C8AE640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247-52C6-440E-A3FB-1FF1DBB7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210-8BAD-4418-8E9C-B0166C75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2A5-4C8E-48AB-8F39-678DC01A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F59-C895-4D15-9219-D73B7F94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249-F602-46EF-93B8-733D8CA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29B0-2F87-4DE3-8C2F-2E8A62F4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828800"/>
            <a:ext cx="5943600" cy="2654280"/>
          </a:xfrm>
          <a:prstGeom prst="rect">
            <a:avLst/>
          </a:prstGeom>
          <a:noFill/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Rate Ca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te card is a published price list for purchasing advertising time or space.  The rate card is essentially an inventory sheet with associated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5186520"/>
            <a:ext cx="6019920" cy="30808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verall sponsorship package which is ultimately assigned a price can be described as the sum of all benefits attributed to a particular sponsorship, including tickets, hospitality, signage, merchandise, program ad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t 8 – Sponsorship &amp; Endorsemen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8763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007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457200"/>
          <a:ext cx="3397320" cy="81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397320" cy="81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333600" y="457200"/>
          <a:ext cx="3524400" cy="845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457200"/>
                    <a:ext cx="352440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4876920"/>
            <a:ext cx="160020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8000"/>
            <a:ext cx="182880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04:09:37Z</dcterms:created>
  <dc:creator>Copyright © 2007 by Sports Career Consulting, LLC</dc:creator>
  <dc:description/>
  <dc:language>en-US</dc:language>
  <cp:lastModifiedBy>Chris Lindauer</cp:lastModifiedBy>
  <dcterms:modified xsi:type="dcterms:W3CDTF">2007-09-03T19:02:48Z</dcterms:modified>
  <cp:revision>6</cp:revision>
  <dc:subject/>
  <dc:title>Slide 1</dc:title>
</cp:coreProperties>
</file>