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4DD-BC14-4054-998F-AA1B0892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647-64D5-4FB0-89D3-BAD6AD35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AE0-3957-4BF2-92D0-9E614BDE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C15-9E0E-4009-884D-72ED113C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5D8-8348-43F0-9A38-113FF88B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FF2-3DD6-4D79-BE90-1A10CBB0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344-B72C-4B56-A643-21B5EA3E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390-E22C-4355-877B-2E36A972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0F8-D036-41F4-B8B2-0EEDE3CD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A63-2C36-4C2B-90A5-37A9F86A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961-66DC-4104-BC8B-733762A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DEC-D50A-4837-B4C2-67C9AA1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CCF8-2D11-469E-A65C-674B66DBA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943600" cy="9144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Cause Market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5943600" cy="7696080"/>
          </a:xfrm>
          <a:prstGeom prst="rect">
            <a:avLst/>
          </a:prstGeom>
          <a:solidFill>
            <a:srgbClr val="e5fa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Project Backgroun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ause marketing refers to marketing efforts that tie an organization with a charitable cau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 strategy that has quickly become one of the most popular trends in sports a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ntertainment marketing.  Cause marketing is NOT purely philanthropic (meaning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ponsor expects something in return)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ause marketing example: 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The UPS Store once partnered with NASCAR to support “Toys f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Tots”.  The campaign featured a limited-edition, commemorative 1:43 scale die-cast replica of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pecial #88 car.  The UPS Store/Toys for Tots car was sold at participating The UPS Store loc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across the country during the holiday season, with a portion of the proceeds going directly to Toys f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Tots. Participating UPS Store locations also offered customers the opportunity to purchase a Toys f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Tots pledge card for only $1, with all proceeds going to support local Toys for Tots activitie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Project Deta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You will be assuming the role of sponsorship coordinator for a Fortune 500 company.  O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f the responsibilities defined in the job description is managing the company’s cau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arketing efforts.  For this project, you will be responsible for developing a new cau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arketing campaign in which you will choose a sports, event or entertainment property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eam up with and then align with a non-profit or charity organization for a ca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You will also need to prepare a PPT presentation to share with your class communicating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esults of your cause marketing campaign plans.  Your presentation must includ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ollowing informa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1)  Which Fortune 500 Company are you representing?  Do some research and provide 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uch background information on the company as you can…what product or service do the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ell?  What industry are they in?  Who are the competitors?  Are they currently involved wit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ny charities that you are aware of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2)  Which sports, event or entertainment property will you partner with?  Provide som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ackground information about their organiz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3)  Which charity or non-profit will you team with? Provide some background informa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bout their organiz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4)  Explain the goals and objectives of the campaign.  What are you hoping to accomplish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5)  How will you accomplish those goals?  How will you promote the effort?  Provide 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etailed analysis of how you plan to market the cause campaig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6)  How will you measure the results of the campaign to determine whether the cau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arketing effort was successfu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6320" cy="9144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0"/>
            <a:ext cx="7632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0"/>
            <a:ext cx="76320" cy="9144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0"/>
            <a:ext cx="7632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76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915400"/>
            <a:ext cx="685800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8991720"/>
            <a:ext cx="582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2009 by Sports Career Consulting, LLC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53880"/>
            <a:ext cx="76212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86400" y="380880"/>
            <a:ext cx="762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1:10:33Z</dcterms:created>
  <dc:creator>Copyright © 2008 by Sports Career Consulting, LLC.  All Rights Reserved.</dc:creator>
  <dc:description/>
  <dc:language>en-US</dc:language>
  <cp:lastModifiedBy>Chris Lindauer</cp:lastModifiedBy>
  <dcterms:modified xsi:type="dcterms:W3CDTF">2009-08-22T17:29:52Z</dcterms:modified>
  <cp:revision>95</cp:revision>
  <dc:subject>Copyright © 2008 by Sports Career Consulting, LLC.  All Rights Reserved.</dc:subject>
  <dc:title>Marketing Plan</dc:title>
</cp:coreProperties>
</file>