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BBC7-B825-4836-8A45-5D80FC0A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A41-DCF0-40B9-8629-3CEA04E0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5B1-F0F5-4436-92F5-37A914C0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47F-6AA4-4984-9DB1-4C2339D8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0028-6E81-496A-9013-5BF92904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172-0366-4F02-BB2B-3CC3F3E4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FE3-34CC-4282-A65A-AEA0A1DC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FA1-C450-4422-9F2E-66A20539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D18-6DF2-4728-8DAD-7E61A51E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FDC-D5F9-4822-8C0A-EA1B08E0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A5F-1EB6-4A91-ABC5-EA421F92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812-69FA-4560-908D-A34816BD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94E5-1DF2-48CF-871B-B2169105B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057400"/>
            <a:ext cx="5638680" cy="2288520"/>
          </a:xfrm>
          <a:prstGeom prst="rect">
            <a:avLst/>
          </a:prstGeom>
          <a:noFill/>
          <a:ln w="92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Invent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defines exactly what assets an event or property has available to 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5029560"/>
            <a:ext cx="5638680" cy="2715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could include many sponsorship elements, such as advertisements in game programs, on-site signage or broadcas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t 8 – Sponsorship &amp; Endorsemen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dent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8763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007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86200" y="3978360"/>
            <a:ext cx="1600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978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152388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08960" y="303480"/>
            <a:ext cx="226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ponsor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pportuniti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3800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1676520"/>
            <a:ext cx="61722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otball - Inventory Opportun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ilgate Sh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game Sh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-by-Pl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ftime Sh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game Sh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reboard Sh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ch Paul Pasqualoni Sh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ide Syracuse Football with Coach Paul Pasqualo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ketball - Inventory Opportun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game Sh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-by-Pl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ftime Sh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game Sh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Inventory Opportuniti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men's Basketball Play-by-Pl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's Lacrosse Play-by-Pl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vision - Syracuse Side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Broadcast Inven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ve Entitlement Opportunities (including player features, trivia questions, etc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84120" y="8869320"/>
            <a:ext cx="462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http://www.suathletics.com/sports/gen/2001/sponsor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86200" y="3978360"/>
            <a:ext cx="1600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978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1523880" cy="914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08960" y="303480"/>
            <a:ext cx="226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ponsor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pportuniti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3800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1600200"/>
            <a:ext cx="59436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dium and Event Impa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·  Carrier Dome Sign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·  Main Score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·  Main Scoreboard Top Pan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·  Main Scoreboard Bottom Pan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·  Sideline Scoreboard Rotational Sig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·  Sideline Scoreboards Static Sig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·  Football Goal Post Padd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·  Basketball Goal Post Padd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·  Concourse Display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·  Concourse LED Sig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·  Auxiliary Scoreboard - Basketball on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·  Floor Level Rotational Signs – Basketball on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·  Press Row Backlit Panels - Basketball  on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·  Additional Signage - Lampe Athletic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·  Orange FanF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84120" y="8869320"/>
            <a:ext cx="462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http://www.suathletics.com/sports/gen/2001/sponsor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3520" y="6553080"/>
            <a:ext cx="2381040" cy="1590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429000" y="6539040"/>
            <a:ext cx="29718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86200" y="3978360"/>
            <a:ext cx="1600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978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1523880" cy="914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08960" y="303480"/>
            <a:ext cx="226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ponsor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pportuniti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38000" cy="914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1143000"/>
            <a:ext cx="6172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Advertis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me Programs ·  Orangemen Kickoff - Football ·  Orangemen Courtside - Men's Basketball ·  Orange Sports News ·  Team Posters ·  Schedule Cards ·  All-Sports Schedules ·  Ticketback Sponsorship ·  Ticket Envelope ·  Season Ticket Mailings ·  Orange Pack Bumper Stickers ·  Parking Passes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Sports Opportun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·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er Dome Sponsorship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cluding PA/Message Center Announcements) ·  Press Box Reception ·  Three-Point T-Shirt Toss ·  Halftime Shoot-Out ·  Courtside Suite ·  Bank Shot Basketball ·  Game Titleship ·  'Cuse Kids Club ·  Turnstiles ·  Ball Boys/Girls ·  Syracuse Sports Central ·  Coaching Headsets ·  Press Conference Backdro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Sponsorship Opportun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·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ial On-line Partner on suathletics.com ·  On-line Home Page Partner on suathletics.com ·  On-line Advertiser on suathletics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84120" y="8869320"/>
            <a:ext cx="462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http://www.suathletics.com/sports/gen/2001/sponsor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819520" y="6858000"/>
            <a:ext cx="14284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04:09:37Z</dcterms:created>
  <dc:creator>Copyright © 2007 by Sports Career Consulting, LLC</dc:creator>
  <dc:description/>
  <dc:language>en-US</dc:language>
  <cp:lastModifiedBy>Chris Lindauer</cp:lastModifiedBy>
  <dcterms:modified xsi:type="dcterms:W3CDTF">2007-09-03T19:17:49Z</dcterms:modified>
  <cp:revision>7</cp:revision>
  <dc:subject/>
  <dc:title>Slide 1</dc:title>
</cp:coreProperties>
</file>